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0063" cy="9629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087640"/>
            <a:ext cx="9144000" cy="27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cc"/>
                </a:solidFill>
                <a:latin typeface="Comic Sans MS"/>
              </a:rPr>
              <a:t>APRESENTAÇÃ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cc"/>
                </a:solidFill>
                <a:latin typeface="Comic Sans MS"/>
              </a:rPr>
              <a:t>SL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9000" y="5083200"/>
            <a:ext cx="8325000" cy="155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cc"/>
                </a:solidFill>
                <a:latin typeface="Comic Sans MS"/>
              </a:rPr>
              <a:t>Diretoria 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cc"/>
                </a:solidFill>
                <a:latin typeface="Comic Sans MS"/>
              </a:rPr>
              <a:t>Romoaldo M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i="1" lang="pt-BR" sz="2000" spc="-1" strike="noStrike">
                <a:solidFill>
                  <a:srgbClr val="ffffcc"/>
                </a:solidFill>
                <a:latin typeface="Comic Sans MS"/>
              </a:rPr>
              <a:t>Slam Santa Luzia Assistência Médica L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cc"/>
                </a:solidFill>
                <a:latin typeface="Comic Sans MS"/>
              </a:rPr>
              <a:t>www.slamdf.com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50920" y="411120"/>
            <a:ext cx="492444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65080" y="1827720"/>
            <a:ext cx="7701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OBER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lano ESSENCIAL : cobertura para  consultas em todas a especialidades , exames básicos e especiais e atendimento  em pronto socorro</a:t>
            </a: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lano BASIC I :  segmento assistencial : Ambulatorial Hospitalar com obstetrícia.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Comic Sans MS"/>
              </a:rPr>
              <a:t>P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drão Quarto Coletivo com Cobertura para Par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Plano BASIC  II : segmento assistencial: Ambulatorial Hospitalar com obstetrícia.  Padrão Apartamento com Cobertura para Par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50920" y="411120"/>
            <a:ext cx="49244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77960" y="694080"/>
            <a:ext cx="7889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SERVIÇOS ADI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 SLAM – Santa Luzia Assistência Médica em seus conceitos de qualidade e eficiência na prestação de serviços médico-hospitalares assistências poderá, também, prestar outros serviços sem ônus e mediante solicitação, a sa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alestras de melhoria da qualidade de vi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alestras de Medicina Preven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alestras voltadas à higienização bucal e procedimento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9244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31840" y="1220400"/>
            <a:ext cx="50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ÊNCIAS (a partir do ingresso dos beneficiários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95280" y="2300400"/>
          <a:ext cx="6697800" cy="4026960"/>
        </p:xfrm>
        <a:graphic>
          <a:graphicData uri="http://schemas.openxmlformats.org/drawingml/2006/table">
            <a:tbl>
              <a:tblPr/>
              <a:tblGrid>
                <a:gridCol w="3637080"/>
                <a:gridCol w="3060720"/>
              </a:tblGrid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CEDI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UNCIONÁRIOS E DEPEND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gências e Emergênc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 ho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sul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s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ames si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s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ames especializ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80 di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ternações Hospita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80 d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r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00 d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oenças Pré – Exist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 mes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94040" y="0"/>
            <a:ext cx="49244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47600" y="1513080"/>
            <a:ext cx="6972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RINCIPAIS RELACIONAMENTOS COMER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S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RC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A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OMANDO AUTO PE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ONSER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GLOBEX (PONTO F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IDH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ROSSEG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ROT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UNICE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IN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9244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38120"/>
            <a:ext cx="849312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PARCERIAS EM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100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90720" y="2019240"/>
            <a:ext cx="7010280" cy="42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OSSIBILIDADE DE EXTENSÃO DE ATENDIMENTO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restadores de servi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stagi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Fornece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arcei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994040" y="0"/>
            <a:ext cx="49244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43040" y="1089000"/>
            <a:ext cx="7656480" cy="5769000"/>
          </a:xfrm>
          <a:prstGeom prst="foldedCorner">
            <a:avLst>
              <a:gd name="adj" fmla="val 10842"/>
            </a:avLst>
          </a:prstGeom>
          <a:noFill/>
          <a:ln w="38160">
            <a:solidFill>
              <a:srgbClr val="cc6600"/>
            </a:solidFill>
            <a:miter/>
          </a:ln>
          <a:effectLst>
            <a:outerShdw dist="12600" dir="54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Comic Sans MS"/>
              </a:rPr>
              <a:t>O EQUILÍBRIO ent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Comic Sans MS"/>
              </a:rPr>
              <a:t>VIDA e TRABAL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Comic Sans MS"/>
              </a:rPr>
              <a:t>será o maior impulsionador específico para a escolha da carreira n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Comic Sans MS"/>
              </a:rPr>
              <a:t>Você tem um Gestor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lang="pt-BR" sz="2800" spc="-1" strike="noStrike">
                <a:solidFill>
                  <a:srgbClr val="ffffcc"/>
                </a:solidFill>
                <a:latin typeface="Comic Sans MS"/>
              </a:rPr>
              <a:t>Equilíbrio entre Vida e Trabalho”  em sua </a:t>
            </a:r>
            <a:r>
              <a:rPr b="1" lang="pt-BR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Comic Sans MS"/>
              </a:rPr>
              <a:t>Empres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74960" y="0"/>
            <a:ext cx="4924440" cy="933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1278000"/>
            <a:ext cx="7237440" cy="5254560"/>
          </a:xfrm>
          <a:prstGeom prst="foldedCorner">
            <a:avLst>
              <a:gd name="adj" fmla="val 15925"/>
            </a:avLst>
          </a:prstGeom>
          <a:noFill/>
          <a:ln w="38160">
            <a:solidFill>
              <a:srgbClr val="cc6600"/>
            </a:solidFill>
            <a:miter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Comic Sans MS"/>
              </a:rPr>
              <a:t>Você tem a preocupação de cuidar dos seus funcionários e colaboradores, tanto quanto cuida de seu patrimônio, máquinas, móveis e utensíli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31840" y="0"/>
            <a:ext cx="49244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66880" y="1127160"/>
            <a:ext cx="7296120" cy="573084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cc6600"/>
            </a:solidFill>
            <a:miter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Comic Sans MS"/>
              </a:rPr>
              <a:t>Qual é o custo da falta de empenho e engajamento por parte dos meus colaboradores</a:t>
            </a:r>
            <a:r>
              <a:rPr b="1" lang="pt-BR" sz="3400" spc="-1" strike="noStrike">
                <a:solidFill>
                  <a:srgbClr val="ffffcc"/>
                </a:solidFill>
                <a:latin typeface="Comic Sans MS"/>
              </a:rPr>
              <a:t>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4960" y="0"/>
            <a:ext cx="492444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009800"/>
            <a:ext cx="9144000" cy="99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28840" y="0"/>
            <a:ext cx="3971880" cy="812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23960" y="1557360"/>
            <a:ext cx="8134200" cy="4600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71680" y="1965240"/>
            <a:ext cx="8153280" cy="5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50920" y="239760"/>
            <a:ext cx="492444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61800" y="1714680"/>
            <a:ext cx="4191120" cy="4476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743360" y="1809720"/>
            <a:ext cx="4114800" cy="4381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704960"/>
            <a:ext cx="8610480" cy="3549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400" spc="-1" strike="noStrike">
                <a:solidFill>
                  <a:srgbClr val="ffffff"/>
                </a:solidFill>
                <a:latin typeface="Comic Sans MS"/>
              </a:rPr>
              <a:t>Sejam bem vind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400" spc="-1" strike="noStrike">
                <a:solidFill>
                  <a:srgbClr val="ffffff"/>
                </a:solidFill>
                <a:latin typeface="Comic Sans MS"/>
              </a:rPr>
              <a:t>Para nós, do SLAM, é um prazer e uma honra  estar aqui com vocês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50920" y="411120"/>
            <a:ext cx="49244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427560" y="3679920"/>
            <a:ext cx="2133360" cy="1904760"/>
            <a:chOff x="3427560" y="3679920"/>
            <a:chExt cx="2133360" cy="1904760"/>
          </a:xfrm>
        </p:grpSpPr>
        <p:sp>
          <p:nvSpPr>
            <p:cNvPr id="143" name=""/>
            <p:cNvSpPr/>
            <p:nvPr/>
          </p:nvSpPr>
          <p:spPr>
            <a:xfrm>
              <a:off x="3427560" y="3679920"/>
              <a:ext cx="213336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3520" y="3832200"/>
              <a:ext cx="1981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591080" y="3051000"/>
            <a:ext cx="4304520" cy="1828800"/>
            <a:chOff x="4591080" y="3051000"/>
            <a:chExt cx="4304520" cy="1828800"/>
          </a:xfrm>
        </p:grpSpPr>
        <p:sp>
          <p:nvSpPr>
            <p:cNvPr id="146" name=""/>
            <p:cNvSpPr/>
            <p:nvPr/>
          </p:nvSpPr>
          <p:spPr>
            <a:xfrm>
              <a:off x="4591080" y="3051000"/>
              <a:ext cx="4304520" cy="1828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44080" y="3197160"/>
              <a:ext cx="3998160" cy="475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505320" y="5048280"/>
            <a:ext cx="2590200" cy="1809720"/>
            <a:chOff x="3505320" y="5048280"/>
            <a:chExt cx="2590200" cy="1809720"/>
          </a:xfrm>
        </p:grpSpPr>
        <p:sp>
          <p:nvSpPr>
            <p:cNvPr id="149" name=""/>
            <p:cNvSpPr/>
            <p:nvPr/>
          </p:nvSpPr>
          <p:spPr>
            <a:xfrm>
              <a:off x="3505320" y="5048280"/>
              <a:ext cx="2590200" cy="180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97480" y="5192640"/>
              <a:ext cx="240588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mic Sans MS"/>
                </a:rPr>
                <a:t>Entrega de document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81320" y="2305080"/>
            <a:ext cx="2476080" cy="895320"/>
            <a:chOff x="3181320" y="2305080"/>
            <a:chExt cx="2476080" cy="895320"/>
          </a:xfrm>
        </p:grpSpPr>
        <p:sp>
          <p:nvSpPr>
            <p:cNvPr id="152" name=""/>
            <p:cNvSpPr/>
            <p:nvPr/>
          </p:nvSpPr>
          <p:spPr>
            <a:xfrm>
              <a:off x="3181320" y="2305080"/>
              <a:ext cx="2476080" cy="8953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69160" y="2378160"/>
              <a:ext cx="2299680" cy="64260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mic Sans MS"/>
                </a:rPr>
                <a:t>Apresentação de propos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0" y="2095560"/>
            <a:ext cx="3123720" cy="2895120"/>
            <a:chOff x="0" y="2095560"/>
            <a:chExt cx="3123720" cy="2895120"/>
          </a:xfrm>
        </p:grpSpPr>
        <p:sp>
          <p:nvSpPr>
            <p:cNvPr id="155" name=""/>
            <p:cNvSpPr/>
            <p:nvPr/>
          </p:nvSpPr>
          <p:spPr>
            <a:xfrm>
              <a:off x="0" y="2095560"/>
              <a:ext cx="3123720" cy="28951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0880" y="2326680"/>
              <a:ext cx="2901240" cy="22885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Levantamento do Perfil Epidemiológ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Via ficha de solicitação de propos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99880"/>
            <a:ext cx="9144000" cy="78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cc"/>
                </a:solidFill>
                <a:latin typeface="Comic Sans MS"/>
              </a:rPr>
              <a:t>Estratégia e Implantação e 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2019240"/>
            <a:ext cx="9144000" cy="100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803240" y="0"/>
            <a:ext cx="492444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36840" y="345924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3800" y="3503520"/>
            <a:ext cx="40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Cadastramento e impla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42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900" spc="-1" strike="noStrike">
                <a:solidFill>
                  <a:srgbClr val="ffffcc"/>
                </a:solidFill>
                <a:latin typeface="Comic Sans MS"/>
              </a:rPr>
              <a:t>Muito Obrigado !</a:t>
            </a:r>
            <a:br>
              <a:rPr sz="12900"/>
            </a:br>
            <a:r>
              <a:rPr b="1" i="1" lang="pt-BR" sz="6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i="1" lang="pt-BR" sz="6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i="1" lang="pt-BR" sz="6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i="1" lang="pt-BR" sz="6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i="1" lang="pt-BR" sz="6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i="1" lang="pt-BR" sz="6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9244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876240"/>
            <a:ext cx="9144000" cy="10008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4419720" y="1828800"/>
            <a:ext cx="617040" cy="2894760"/>
            <a:chOff x="4419720" y="1828800"/>
            <a:chExt cx="617040" cy="2894760"/>
          </a:xfrm>
        </p:grpSpPr>
        <p:sp>
          <p:nvSpPr>
            <p:cNvPr id="81" name=""/>
            <p:cNvSpPr/>
            <p:nvPr/>
          </p:nvSpPr>
          <p:spPr>
            <a:xfrm>
              <a:off x="4419720" y="1908360"/>
              <a:ext cx="614880" cy="2815200"/>
            </a:xfrm>
            <a:custGeom>
              <a:avLst/>
              <a:gdLst/>
              <a:ahLst/>
              <a:rect l="l" t="t" r="r" b="b"/>
              <a:pathLst>
                <a:path w="1043" h="1388">
                  <a:moveTo>
                    <a:pt x="812" y="0"/>
                  </a:moveTo>
                  <a:lnTo>
                    <a:pt x="228" y="0"/>
                  </a:lnTo>
                  <a:lnTo>
                    <a:pt x="228" y="867"/>
                  </a:lnTo>
                  <a:lnTo>
                    <a:pt x="0" y="867"/>
                  </a:lnTo>
                  <a:lnTo>
                    <a:pt x="522" y="1388"/>
                  </a:lnTo>
                  <a:lnTo>
                    <a:pt x="1043" y="867"/>
                  </a:lnTo>
                  <a:lnTo>
                    <a:pt x="812" y="867"/>
                  </a:lnTo>
                  <a:lnTo>
                    <a:pt x="8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57240" y="1828800"/>
              <a:ext cx="339480" cy="96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19720" y="3527280"/>
              <a:ext cx="134640" cy="159120"/>
            </a:xfrm>
            <a:custGeom>
              <a:avLst/>
              <a:gdLst/>
              <a:ahLst/>
              <a:rect l="l" t="t" r="r" b="b"/>
              <a:pathLst>
                <a:path w="229" h="79">
                  <a:moveTo>
                    <a:pt x="229" y="0"/>
                  </a:moveTo>
                  <a:lnTo>
                    <a:pt x="229" y="79"/>
                  </a:lnTo>
                  <a:lnTo>
                    <a:pt x="0" y="79"/>
                  </a:lnTo>
                  <a:lnTo>
                    <a:pt x="1" y="0"/>
                  </a:lnTo>
                  <a:lnTo>
                    <a:pt x="2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99600" y="3527280"/>
              <a:ext cx="137160" cy="159120"/>
            </a:xfrm>
            <a:custGeom>
              <a:avLst/>
              <a:gdLst/>
              <a:ahLst/>
              <a:rect l="l" t="t" r="r" b="b"/>
              <a:pathLst>
                <a:path w="234" h="79">
                  <a:moveTo>
                    <a:pt x="234" y="0"/>
                  </a:moveTo>
                  <a:lnTo>
                    <a:pt x="233" y="7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23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0" y="1028880"/>
            <a:ext cx="8070840" cy="100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400" spc="-1" strike="noStrike">
                <a:solidFill>
                  <a:srgbClr val="ffffcc"/>
                </a:solidFill>
                <a:latin typeface="Comic Sans MS"/>
              </a:rPr>
              <a:t>Diferencia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38680" y="1203840"/>
            <a:ext cx="37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11680" y="3330720"/>
            <a:ext cx="376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44960" y="4773600"/>
            <a:ext cx="12826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138200">
            <a:off x="-152280" y="2027160"/>
            <a:ext cx="7502400" cy="3020040"/>
          </a:xfrm>
          <a:prstGeom prst="rect">
            <a:avLst/>
          </a:prstGeom>
          <a:solidFill>
            <a:srgbClr val="6600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ffff00"/>
                </a:solidFill>
                <a:latin typeface="Comic Sans MS"/>
              </a:rPr>
              <a:t>Surpreende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9138200">
            <a:off x="2279160" y="2986200"/>
            <a:ext cx="6915240" cy="1557000"/>
          </a:xfrm>
          <a:prstGeom prst="rect">
            <a:avLst/>
          </a:prstGeom>
          <a:solidFill>
            <a:srgbClr val="008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pt-BR" sz="9600" spc="-1" strike="noStrike">
                <a:solidFill>
                  <a:srgbClr val="ffff00"/>
                </a:solidFill>
                <a:latin typeface="Comic Sans MS"/>
              </a:rPr>
              <a:t>Encantar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36560" y="0"/>
            <a:ext cx="3800520" cy="743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50920" y="411120"/>
            <a:ext cx="492444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76240" y="1838160"/>
            <a:ext cx="744876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36600" y="2244600"/>
            <a:ext cx="8540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Comic Sans MS"/>
              </a:rPr>
              <a:t>1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Atender totalmente as expectativas dos nossos clientes na qualidade de atendimento à seus funcionários e colabor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400" y="781200"/>
            <a:ext cx="9048600" cy="14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Comic Sans MS"/>
              </a:rPr>
              <a:t>Na nossa opinião, a principal raz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Comic Sans MS"/>
              </a:rPr>
              <a:t>do sucesso de um relacionamento comercial é a satisfação total de todos os envolv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99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3120" y="4560840"/>
            <a:ext cx="860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Através desta parceria, proporcionar ao SLAM, condições econômicas para garantir o sucesso deste relacio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3080" y="3632040"/>
            <a:ext cx="83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cc66"/>
              </a:buClr>
              <a:buFont typeface="Comic Sans M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roporcionar ao usuário final a melhoria de sua qualidade de 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679840" y="0"/>
            <a:ext cx="427644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8120" indent="-43812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edução do turnover,  a rotatividade do quadro de funcionários e colaboradores, reduzirá, haverá ganho de qualidade de vi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43812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umento 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xpressivo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da produção, a redução do tempo de atendimento médico, reverterá em aumento da produção, diminuição de faltas ao trabalh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43812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ossibilidades de vantagens fiscais, de acordo com o enquadramento contáb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43812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Valorização do funcionário/colaborador , aumentando o comprometimento com 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1800" y="1020600"/>
            <a:ext cx="831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cc"/>
                </a:solidFill>
                <a:latin typeface="Comic Sans MS"/>
              </a:rPr>
              <a:t>Quanto vale sua decisã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9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399096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240" y="114480"/>
            <a:ext cx="9144000" cy="69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0400" y="1488960"/>
            <a:ext cx="68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9960" y="1120680"/>
            <a:ext cx="823140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mic Sans MS"/>
              </a:rPr>
              <a:t>Prezados  Senhores 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mic Sans MS"/>
              </a:rPr>
              <a:t>O SLAM – Santa Luzia Assistência Médica Ltda., Administradora do Plano de Saúde, Assistência Médica e Hospitalar do Grupo SANTA LUZIA, tem se dedicado ao longo desses 15 anos, a cuidar da saúde das pessoas, em sua sede própria em  Brasília DF, nosso objetivo é levar ao conhecimento de V.Sa., </a:t>
            </a:r>
            <a:r>
              <a:rPr b="1" lang="pt-BR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pt-BR" sz="1800" spc="-1" strike="noStrike">
                <a:solidFill>
                  <a:srgbClr val="ffffff"/>
                </a:solidFill>
                <a:latin typeface="Comic Sans MS"/>
              </a:rPr>
              <a:t>ossos produtos e serviços destinados a empresas, com propostas imbatíveis para a região, atendimento e preços personalizados e o mais alto padrão de qualidade de serviç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mic Sans MS"/>
              </a:rPr>
              <a:t>Para isto, apresenta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mic Sans MS"/>
              </a:rPr>
              <a:t>Hospital Santa Luzia, dotado de recursos tecnológicos para procedimentos de alta complexidade, Diagnostico por imagem , Tomografia Computadorizada, Ressonância Magnética, UTI adulto e neo natal, menor índice de infecção hospitalar do D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mic Sans MS"/>
              </a:rPr>
              <a:t>Hospital do Coração, será referencia no centro-oeste para cirurgias cardíacas e neurológicas, equipado com o que há de mais moderno nesta á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mic Sans MS"/>
              </a:rPr>
              <a:t>W3 Sul 716 Conj. E Hospital Santa Luzia – Brasília –  Fone: 3445-6003 FAX 3245-673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22640" y="0"/>
            <a:ext cx="49244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34880" y="2606760"/>
            <a:ext cx="82519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Hospital Santa Luzia, Santa Helena, São Francisco, Renascer e Hospital do Coração do Bras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Laboratórios, Medlabor, Pio X, Imuno e Emilio Rib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linicas, Eco Gama, Multiclínicas, Policlínica Gabriela, Eco vida, Isob, Tanor fisioterapia, Centro clinico e centro médico Valparaiso,  Radiologia Santa Luzia, Medcor, Instituto da Criança e adolescente. Clinica Dr. Vietti, Uniclin, Clinica Shalom, Ime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onsultórios médicos em todo o D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771560"/>
            <a:ext cx="9087120" cy="56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Comic Sans MS"/>
              </a:rPr>
              <a:t>Rede credenciada no DF e En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100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394000" y="0"/>
            <a:ext cx="49244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1371600"/>
            <a:ext cx="914400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Comic Sans MS"/>
              </a:rPr>
              <a:t>Atendimento a Nível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0680" y="2457360"/>
            <a:ext cx="865332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 atendimento se dará no caso do usuário estar em trânsito e nos atendimentos de urgência e emergê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 ABRAMGE disponibiliza cerca de 390 hospitais em todo o território brasilei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Todos os associados SLAM, residentes na área de abrangência do DF, terão atendimento através da rede ABRAM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s contatos poderão ser realizados através do telefone 0800.1275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99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49244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03:39:13Z</dcterms:created>
  <dc:creator>Luís Ernesto Meireles</dc:creator>
  <dc:description/>
  <dc:language>en-US</dc:language>
  <cp:lastModifiedBy>hsl</cp:lastModifiedBy>
  <cp:lastPrinted>2002-10-09T16:41:05Z</cp:lastPrinted>
  <dcterms:modified xsi:type="dcterms:W3CDTF">2006-02-20T19:17:48Z</dcterms:modified>
  <cp:revision>151</cp:revision>
  <dc:subject/>
  <dc:title>Slide sem título </dc:title>
</cp:coreProperties>
</file>